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36D3931-E3EA-44E7-80DD-29B4FA27B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3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449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61C88C6-9660-4772-AF16-F6D846492878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http://imgs.xkcd.com/comics/the_important_field.png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ne ametlik 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us ametlik standard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ML5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komplekt uusi kasulikke 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i ole eriti mainstream või eriti laialt kasutat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Picture 8" descr="http://images.cdn.bigcartel.com/bigcartel/product_images/66597677/max_h-1000+max_w-1000/CSStoHTMLSlate_2445.jpg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6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s: HTML+CSS+Javascrip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.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nä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://www.papermountain.org/demos/live/#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www.sightsmap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7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aab kasutada andmete esitamiseks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ga veidi kohmakas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7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i programmeerimiskeele „native“ andme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mugav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line probleem andmete esitamis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Oval 6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2711520" y="2905200"/>
            <a:ext cx="2306520" cy="658800"/>
            <a:chOff x="2711520" y="2905200"/>
            <a:chExt cx="2306520" cy="658800"/>
          </a:xfrm>
        </p:grpSpPr>
        <p:sp>
          <p:nvSpPr>
            <p:cNvPr id="191" name="AutoShape 8"/>
            <p:cNvSpPr/>
            <p:nvPr/>
          </p:nvSpPr>
          <p:spPr>
            <a:xfrm>
              <a:off x="2711520" y="2905200"/>
              <a:ext cx="2306520" cy="65880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utoShape 9"/>
            <p:cNvSpPr/>
            <p:nvPr/>
          </p:nvSpPr>
          <p:spPr>
            <a:xfrm>
              <a:off x="313416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2394720" y="4871880"/>
            <a:ext cx="3404520" cy="635040"/>
            <a:chOff x="2394720" y="4871880"/>
            <a:chExt cx="3404520" cy="635040"/>
          </a:xfrm>
        </p:grpSpPr>
        <p:sp>
          <p:nvSpPr>
            <p:cNvPr id="194" name="AutoShape 11"/>
            <p:cNvSpPr/>
            <p:nvPr/>
          </p:nvSpPr>
          <p:spPr>
            <a:xfrm>
              <a:off x="2419200" y="4871880"/>
              <a:ext cx="3380040" cy="6350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4964760" y="4213080"/>
            <a:ext cx="1308960" cy="584280"/>
            <a:chOff x="4964760" y="4213080"/>
            <a:chExt cx="1308960" cy="584280"/>
          </a:xfrm>
        </p:grpSpPr>
        <p:sp>
          <p:nvSpPr>
            <p:cNvPr id="197" name="AutoShape 14"/>
            <p:cNvSpPr/>
            <p:nvPr/>
          </p:nvSpPr>
          <p:spPr>
            <a:xfrm>
              <a:off x="4970520" y="4213080"/>
              <a:ext cx="1303200" cy="5842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AutoShape 15"/>
            <p:cNvSpPr/>
            <p:nvPr/>
          </p:nvSpPr>
          <p:spPr>
            <a:xfrm>
              <a:off x="496476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16"/>
          <p:cNvGrpSpPr/>
          <p:nvPr/>
        </p:nvGrpSpPr>
        <p:grpSpPr>
          <a:xfrm>
            <a:off x="5033160" y="3505320"/>
            <a:ext cx="1072440" cy="583920"/>
            <a:chOff x="5033160" y="3505320"/>
            <a:chExt cx="1072440" cy="583920"/>
          </a:xfrm>
        </p:grpSpPr>
        <p:sp>
          <p:nvSpPr>
            <p:cNvPr id="200" name="AutoShape 17"/>
            <p:cNvSpPr/>
            <p:nvPr/>
          </p:nvSpPr>
          <p:spPr>
            <a:xfrm>
              <a:off x="5033880" y="3505320"/>
              <a:ext cx="1071720" cy="5839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AutoShape 18"/>
            <p:cNvSpPr/>
            <p:nvPr/>
          </p:nvSpPr>
          <p:spPr>
            <a:xfrm>
              <a:off x="503316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19"/>
          <p:cNvGrpSpPr/>
          <p:nvPr/>
        </p:nvGrpSpPr>
        <p:grpSpPr>
          <a:xfrm>
            <a:off x="4220280" y="3835440"/>
            <a:ext cx="748440" cy="560520"/>
            <a:chOff x="4220280" y="3835440"/>
            <a:chExt cx="748440" cy="560520"/>
          </a:xfrm>
        </p:grpSpPr>
        <p:sp>
          <p:nvSpPr>
            <p:cNvPr id="203" name="AutoShape 20"/>
            <p:cNvSpPr/>
            <p:nvPr/>
          </p:nvSpPr>
          <p:spPr>
            <a:xfrm>
              <a:off x="4227480" y="3835440"/>
              <a:ext cx="741240" cy="56052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422028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Group 22"/>
          <p:cNvGrpSpPr/>
          <p:nvPr/>
        </p:nvGrpSpPr>
        <p:grpSpPr>
          <a:xfrm>
            <a:off x="2013480" y="3811680"/>
            <a:ext cx="1942560" cy="461880"/>
            <a:chOff x="2013480" y="3811680"/>
            <a:chExt cx="1942560" cy="461880"/>
          </a:xfrm>
        </p:grpSpPr>
        <p:sp>
          <p:nvSpPr>
            <p:cNvPr id="206" name="AutoShape 23"/>
            <p:cNvSpPr/>
            <p:nvPr/>
          </p:nvSpPr>
          <p:spPr>
            <a:xfrm>
              <a:off x="2030400" y="3811680"/>
              <a:ext cx="1925640" cy="46188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AutoShape 24"/>
            <p:cNvSpPr/>
            <p:nvPr/>
          </p:nvSpPr>
          <p:spPr>
            <a:xfrm>
              <a:off x="20134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29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serveer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baastehn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4320" indent="-27180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veel hulk eri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JS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83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mantik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andmete esitu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df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58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4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Text Box 6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3320" indent="-274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 flipV="1">
            <a:off x="2685960" y="22604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59584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6094440" y="228420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 flipV="1">
            <a:off x="4275000" y="22748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0006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13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1547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48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st tähendus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53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vs JS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opulaarsem. Laiatarbe-süsteemid a la Google pakuvad enamasti JSON-is andme-es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58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-i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või JSON-i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3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Group 6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266" name="Freeform 7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20350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21826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2008080" y="4344840"/>
              <a:ext cx="2509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Picture 11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4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381060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7"/>
          <p:cNvSpPr/>
          <p:nvPr/>
        </p:nvSpPr>
        <p:spPr>
          <a:xfrm flipV="1">
            <a:off x="4952880" y="3267000"/>
            <a:ext cx="1447920" cy="781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3c suur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 esita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eeli ja luua standardeid, mille abil kirjeldada asju (internetis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datat saab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rgest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t programmist teise saata, nii et info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mõt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84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namespac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turtle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89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AutoShape 6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n keeruline osa semantilise veebi projekti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9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63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66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69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72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75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78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81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84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87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0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3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Freeform 36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1066680" y="4026960"/>
            <a:ext cx="838440" cy="1317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H="1" flipV="1">
            <a:off x="3189240" y="3494160"/>
            <a:ext cx="403200" cy="40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410080" y="3569760"/>
            <a:ext cx="38124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6629400" y="2351160"/>
            <a:ext cx="38088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H="1" flipV="1">
            <a:off x="6008400" y="2351160"/>
            <a:ext cx="17460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H="1" flipV="1">
            <a:off x="2122200" y="2274480"/>
            <a:ext cx="17460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V="1">
            <a:off x="2895480" y="2350800"/>
            <a:ext cx="1800" cy="250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3429000" y="2274480"/>
            <a:ext cx="30492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V="1">
            <a:off x="4648320" y="4637160"/>
            <a:ext cx="144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 flipV="1">
            <a:off x="4648320" y="5474880"/>
            <a:ext cx="1440" cy="174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6618240" y="5334120"/>
            <a:ext cx="8604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0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609480" y="2274480"/>
            <a:ext cx="609840" cy="631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bjekt,  omadus,  väärtus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objekt,väärtu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907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900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2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26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DFa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ja microforma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50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Üks p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tiline viis edasiminekuks semantilise koosvõime osa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da andmeid veebilehel selliselt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33360">
              <a:lnSpc>
                <a:spcPct val="89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d oleks harilikul (suvalisel) inimloetaval html-kujul tekstidena. xml formaat ei ole tingimata vajalik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33360">
              <a:lnSpc>
                <a:spcPct val="89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arilikul html-lehel olevate andmejuppide ümber pannakse RDFa formaadis metainfo, mis ütleb automaattöötlejale, mis andmetega on tegemi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333360">
              <a:lnSpc>
                <a:spcPct val="89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satav metainfo ei muuda lehe algset väljanägemist ja üldjuhul ei dubleeri lehel juba olevat info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32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 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se html-teksti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emel on html-tekstiks RDFa järgi annoteeritul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about=”#jaanus_kask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nimi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telefon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rel=”er:koduleht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37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42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Line 6"/>
          <p:cNvSpPr/>
          <p:nvPr/>
        </p:nvSpPr>
        <p:spPr>
          <a:xfrm flipH="1">
            <a:off x="2657520" y="1905120"/>
            <a:ext cx="7048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H="1">
            <a:off x="1666440" y="3276720"/>
            <a:ext cx="552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5022720" y="3352680"/>
            <a:ext cx="168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13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6934320" y="4114800"/>
            <a:ext cx="1598400" cy="1903320"/>
            <a:chOff x="6934320" y="4114800"/>
            <a:chExt cx="1598400" cy="1903320"/>
          </a:xfrm>
        </p:grpSpPr>
        <p:sp>
          <p:nvSpPr>
            <p:cNvPr id="116" name="AutoShape 5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3341520" y="2579760"/>
            <a:ext cx="3299040" cy="1393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-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2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3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3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anva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ideo ja aud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äikesed andmebaasi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ust lugeda brauseri-tehnoloogia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metlikud standardid: http://www.w3.org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codecademy.com/tracks/web </a:t>
            </a: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erimisk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14-11-14T09:49:03Z</dcterms:modified>
  <cp:revision>20</cp:revision>
  <dc:subject/>
  <dc:title> </dc:title>
</cp:coreProperties>
</file>